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82B-2E9D-4728-A654-B7F4624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EED-8520-46E0-BBE5-A786D7DB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9A5-EB61-4486-B455-2B132764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D53-0FDF-4EFA-B14F-228047C4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31F7-0EC9-413F-90F9-C79AD970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6966-D418-41B2-B2D2-C48C0400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7F0F-90D0-421F-B650-8EF8EAD3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424-55A0-44F7-9209-28DD6BE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FA0-BADB-43A1-8598-6D3DDFA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F8D4-F61D-43E7-8BCC-AA05004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8839-80F3-499E-BE06-1D7B945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578-2D84-474A-BC95-FBEF1586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0E9-9826-408A-B244-38094E22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4440-261F-4900-88C3-E0EFECA5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5FE6-45B7-4C63-A277-278260DF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0027-9945-490B-8473-DA7EC3F5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A4EA-6F9F-420C-B7F5-A6881DC9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B233-4464-4FEC-AEAF-F39288FF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8A49-56D2-4E2D-977D-0DA1B52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72E4-A7E1-4907-AB7D-007259DE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C9E9-EA50-4554-8E71-C6060C67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1C5F-C254-4F8C-B1A1-17CE87B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5C6-EDE7-49C6-A612-C817051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243D-5585-4124-9AEC-C520B9F0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1490-5A64-4A43-8AC4-52A7CB4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A720-E3B5-4D97-A391-59E78B8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173E-FAF1-47FF-AA66-4D7B9E0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40DE-1FD7-462E-B0BE-64B73EAE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F0A4-0DDC-4709-9964-E59E913F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BCB9-9665-490E-8BE1-02469271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B8B8-5D0B-45B5-A18A-69AEF7C1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4B06-9A40-46AC-9DB0-EC6239F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A481-1E2D-46E5-98D4-6714753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9F2-F0D2-4C5B-8816-88798D5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A111-CA0A-4F86-9D7B-C6C078BC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C348-5354-4E25-AA15-AEA3F0F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6205-8AC1-428F-B796-B4BFD8C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7246-30A3-4A00-9A53-F73E8867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DC10-7539-4C77-AF85-06913AB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B4E1-A8F8-4E9D-8D1F-35F7DED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2151-E1BF-43E1-8057-AAED649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5AB1-8574-4BAC-A40E-D4A88680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5753-7393-44B1-9EC5-3B3BED32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3FBB-B59F-4F09-9695-F93DB321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652-ECF5-473C-A0E4-5C093B8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2EB8-23FB-4EC2-96BB-FD024EB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04FA-C486-4ADC-8663-9176B61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034C-8039-4E72-97E6-359B9F3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5782-9951-49A6-AFF0-F7C7F58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655F-5F45-45EB-AB68-3E1FB2E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47BE-4549-433F-9934-AB70C6C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C438-7FDA-46D7-941D-9291943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09DC-2E83-4FEF-BEB3-8E3F5F2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C891-4A25-40D8-A511-DC25423A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7A78-A5D6-4D37-91A0-E77A6E62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350-46A9-4887-B730-8CB5BF3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C71D-4713-4462-A97E-B3245A20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EBD-E3C6-43FE-A7D4-8A61EC1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5CD-6CD2-4A39-9AA5-CC76E3C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E4A-32D2-4207-854D-EC40836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F54-EA24-41F3-8012-2598CAED1C85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6A7E-4485-4E9E-9DD3-DB141EEC49F2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3D4-1F2F-414A-93B7-6BEA3F9245F0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73D-B6A6-4DDA-A299-D9299DB0E96B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080B-EBBD-4563-A745-C6C3306AADB6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dn.graphicsfactory.com/clip-art/image_files/image/8/1329298-see.gif&amp;imgrefurl=http://www.graphicsfactory.com/Clip_Art/People/Children/see_377011.html&amp;h=300&amp;w=300&amp;sz=24&amp;tbnid=5HxdI5jy82zTwM:&amp;tbnh=90&amp;tbnw=90&amp;prev=/search?q=child+reading+book&amp;tbm=isch&amp;tbo=u&amp;zoom=1&amp;q=child+reading+book&amp;usg=__HTXF11b62tp7AOjJo3sebZM2O1Y=&amp;docid=_Y-iOEF_VbpKcM&amp;sa=X&amp;ei=klZaUMa7DsPF0QHMlYCQCg&amp;ved=0CDQQ9QEwAw&amp;dur=78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ld+reading&amp;um=1&amp;hl=en&amp;sa=N&amp;rlz=1T4ADRA_enUS425US425&amp;biw=1223&amp;bih=494&amp;tbm=isch&amp;tbnid=VFpLd8Q-8vso6M:&amp;imgrefurl=http://suite101.com/article/your-childs-reading-level-is-irrelevant-a355850&amp;docid=2D8OXQhE2_UE0M&amp;imgurl=http://images.suite101.com/3044381_com_child_reading_commons_.jpg&amp;w=800&amp;h=523&amp;ei=zG9aUPjVMO220QHW2oC4BA&amp;zoom=1&amp;iact=hc&amp;vpx=194&amp;vpy=151&amp;dur=1986&amp;hovh=181&amp;hovw=278&amp;tx=148&amp;ty=119&amp;sig=102435199160849555345&amp;page=2&amp;tbnh=136&amp;tbnw=167&amp;start=13&amp;ndsp=21&amp;ved=1t:429,r:8,s:13,i:21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ld+reading&amp;um=1&amp;hl=en&amp;sa=N&amp;rlz=1T4ADRA_enUS425US425&amp;biw=1223&amp;bih=494&amp;tbm=isch&amp;tbnid=pD6nGVFz8TKiZM:&amp;imgrefurl=http://jonathanshipley.blogspot.com/2011/06/seven-tips-to-keep-kids-reading-this.html&amp;docid=M3D8aTm_GdnufM&amp;imgurl=http://3.bp.blogspot.com/-n9WgMHxawSk/TeZA-Q0dFfI/AAAAAAAAMPQ/I3XWXHndaoA/s1600/kid-reading.jpg&amp;w=675&amp;h=404&amp;ei=zG9aUPjVMO220QHW2oC4BA&amp;zoom=1&amp;iact=hc&amp;vpx=517&amp;vpy=206&amp;dur=958&amp;hovh=174&amp;hovw=290&amp;tx=157&amp;ty=87&amp;sig=102435199160849555345&amp;page=5&amp;tbnh=142&amp;tbnw=189&amp;start=72&amp;ndsp=18&amp;ved=1t:429,r:14,s:72,i:41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xC-Qo_8GiU" TargetMode="External"/><Relationship Id="rId2" Type="http://schemas.openxmlformats.org/officeDocument/2006/relationships/hyperlink" Target="http://www.vdoe.whro.org/elementary_reading/ThinkAloud1-20-2010_F8_FastStart_512k.swf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b/benjaminfr133951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Morning Do Now!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hare your “ineffective” instructional situ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Class reflect in your Literacy Lo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Let’s share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2743200" y="457200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g_hi" descr="https://encrypted-tbn1.google.com/images?q=tbn:ANd9GcStMda29KGjT5Sc2ss82ghG8nM5LO8d0uazSZyuB1ihtQ1SSe7oPg"/>
          <p:cNvPicPr/>
          <p:nvPr/>
        </p:nvPicPr>
        <p:blipFill>
          <a:blip r:embed="rId1"/>
          <a:stretch/>
        </p:blipFill>
        <p:spPr>
          <a:xfrm>
            <a:off x="6095880" y="358128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04920" y="1752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1 : Prewr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a topi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der the purpo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ntify the genre the writing will tak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gage in rehearsal activities to gather ide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a graphic organizer to organize ide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2: Draf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rite a rough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wide spacing to leave room fo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vising and edit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hasize ideas rather than mechanical correctnes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k the writing as a “rough draft.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608480" y="228600"/>
            <a:ext cx="547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he Writing Proces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600200" y="9144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ve stages that describe what students think and do as they wri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g_hi" descr="https://encrypted-tbn1.google.com/images?q=tbn:ANd9GcStMda29KGjT5Sc2ss82ghG8nM5LO8d0uazSZyuB1ihtQ1SSe7oPg"/>
          <p:cNvPicPr/>
          <p:nvPr/>
        </p:nvPicPr>
        <p:blipFill>
          <a:blip r:embed="rId1"/>
          <a:stretch/>
        </p:blipFill>
        <p:spPr>
          <a:xfrm>
            <a:off x="5410080" y="266688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457200" y="-228600"/>
            <a:ext cx="8001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3: Rev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read the rough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writing group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substantive changes that reflect peers’ feedback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ference with the teac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4: Ed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ofread the revised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rrect mechanical err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ference with the teac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5: Publish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the final cop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are the writing with an appropriate audien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380880" y="1219320"/>
            <a:ext cx="845820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al=Comprehen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derstanding the text and being able to use it for its intended purpo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complex process involv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The Reading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stag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volve students in activities to teach, practice and apply fluency, vocabulary and comprehens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rg_hi" descr="http://t1.gstatic.com/images?q=tbn:ANd9GcQMBA3_8vouap1da1IntTb6G6ezfA8iHjGTzm-4afQ0ALnO5DfV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286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60948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1 : Prerea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tivate or build background knowledg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related vocabula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 purpos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predic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roduce key vocabulary word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iew the tex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2: Reading (See 5 Typ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independently or with a partn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with classmates and the teacher using shar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 guided read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en to the teacher read alou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ly reading strategies and skill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828800" y="228600"/>
            <a:ext cx="52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The 5 Stages of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rg_hi" descr="http://t3.gstatic.com/images?q=tbn:ANd9GcSKBuiEKjK5iEZbrvGxDXwUyD8wKFbn9vMYEm0twjeW8WHRl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514600"/>
            <a:ext cx="2876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609480" y="38088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3: Respon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rite in reading log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grand conversations or other discuss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4: Explo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vocabulary word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ct sent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ine genre and other text fac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 about the autho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mini-less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5: Applying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truct projec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related book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the reading experien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rg_hi" descr="http://t3.gstatic.com/images?q=tbn:ANd9GcTUaFcqK4W7sbU5pm4gB1n3S0-b8KXmbllQiRjzT23VkI5Yxk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429000"/>
            <a:ext cx="2990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ypes of Reading 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Independent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udents read a text on their own without teacher  scaffolding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artner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wo students take turns as they read a text together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uided Reading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(Video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supports students as they apply reading strategies and skills to read a tex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hared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reads aloud while students follow along in individual copi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ading Aloud to Studen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reads aloud and actively involves students in the experience.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Try a Think-Aloud (see video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rg_hi" descr="http://t2.gstatic.com/images?q=tbn:ANd9GcSqoLyKa8J98hk6G-Ccx_53lc1g3VoeJkyb9g-owjHu6dVPYjrU"/>
          <p:cNvPicPr/>
          <p:nvPr/>
        </p:nvPicPr>
        <p:blipFill>
          <a:blip r:embed="rId3"/>
          <a:stretch/>
        </p:blipFill>
        <p:spPr>
          <a:xfrm>
            <a:off x="5943600" y="2286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Georgia"/>
              </a:rPr>
              <a:t>Think Aloud 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Georgia"/>
              </a:rPr>
              <a:t>Think Aloud 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incipal 4: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Effective Teachers Adopt a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Balanced Literacy Approach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 instructional program that consists of 9 componen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ading Litera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ading Non-Fic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ew Literac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teracy Strategies and Skil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ral Langua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hen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it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ll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http://t2.gstatic.com/images?q=tbn:ANd9GcQoYIBdBUlR6SilD3q28qCxQCmYQz0Wpl35P5TwfSjSFKNwHppHZA"/>
          <p:cNvPicPr/>
          <p:nvPr/>
        </p:nvPicPr>
        <p:blipFill>
          <a:blip r:embed="rId1"/>
          <a:stretch/>
        </p:blipFill>
        <p:spPr>
          <a:xfrm>
            <a:off x="6553080" y="3505320"/>
            <a:ext cx="1733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mprehensive View of Literacy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“A multi-vitamin”…a wining combination of best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teacher-centered and student-centered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learning theories.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378000" y="3260880"/>
            <a:ext cx="8242200" cy="467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t2.gstatic.com/images?q=tbn:ANd9GcSrk7HXd84qfvomyUMB7jjGzDqwxZjS8X5vfgPAqNlzhTX-Z10b"/>
          <p:cNvPicPr/>
          <p:nvPr/>
        </p:nvPicPr>
        <p:blipFill>
          <a:blip r:embed="rId2"/>
          <a:stretch/>
        </p:blipFill>
        <p:spPr>
          <a:xfrm>
            <a:off x="228600" y="472428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incipal 5: 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ffective Teachers Scaffold When Teaching Students’ Reading and Writ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kills &amp; Strategies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88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ffolding: the support a teacher provides to students as they read and wri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kill: an automatic  processing behavior that stud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in reading and writing. Ex: distinguish fact from opin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ategies: A problem-solving behaviors/tactics that students use in reading and writing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x: predicting, summariz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Skill:                                                                           Strategie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Automatically                                                         Thoughtful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2743200" y="457200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4 Levels of Scaffolding Suppor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igh               Modeled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Teachers mo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from more to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ared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as students assu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                              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responsibilit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ui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w                  Independent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304920" y="5029200"/>
            <a:ext cx="838188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Down Arrow 4"/>
          <p:cNvSpPr/>
          <p:nvPr/>
        </p:nvSpPr>
        <p:spPr>
          <a:xfrm>
            <a:off x="2286000" y="1981080"/>
            <a:ext cx="484200" cy="281952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1260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058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Georgia"/>
              </a:rPr>
              <a:t>Class Activity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2640" y="22096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Let’s have some fu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Making Words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Georgia"/>
              </a:rPr>
              <a:t>Key Question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reading process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writing pro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basic principles for   planning and managing a literacy program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hapter 2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Reading and Writing Processes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49" name="Picture 2" descr="http://t2.gstatic.com/images?q=tbn:ANd9GcQoYIBdBUlR6SilD3q28qCxQCmYQz0Wpl35P5TwfSjSFKNwHppHZA"/>
          <p:cNvPicPr/>
          <p:nvPr/>
        </p:nvPicPr>
        <p:blipFill>
          <a:blip r:embed="rId1"/>
          <a:stretch/>
        </p:blipFill>
        <p:spPr>
          <a:xfrm>
            <a:off x="7086600" y="3352680"/>
            <a:ext cx="1828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Reading and Writing Processes: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A Reading-Writing Connection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2133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ing and writing are reciproc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are constructive (improve or further develop) meaning-making proces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ve comparable activities at each st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grating instruction improves both reading and wr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ading habits and skills improve students’ ability to wr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ini-lesson: teachers provide explicit instruction on reading and writing skills and strateg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Either write something worth reading 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o something worth writing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Benjamin Franklin</a:t>
            </a:r>
            <a:br>
              <a:rPr sz="900"/>
            </a:br>
            <a:br>
              <a:rPr sz="7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1:01:42Z</dcterms:created>
  <dc:creator>Darlene</dc:creator>
  <dc:description/>
  <dc:language>en-US</dc:language>
  <cp:lastModifiedBy>Darlene</cp:lastModifiedBy>
  <dcterms:modified xsi:type="dcterms:W3CDTF">2012-09-28T14:02:44Z</dcterms:modified>
  <cp:revision>21</cp:revision>
  <dc:subject/>
  <dc:title>Chapter 2  Reading and Writing Processes</dc:title>
</cp:coreProperties>
</file>